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wmf" ContentType="image/x-wmf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456C-CCAD-46A4-8430-1135C9E10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675C-F727-44A9-8F51-A71F1B9F8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1910-C1FF-4D3E-9ECC-B1D68276F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509E-6806-404B-84E6-DCD5BED20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BDEC6-D6BE-488C-B24A-564660109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163B5-BE5D-415A-9361-951F7BAF1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9983E-69A9-4EF8-8EA8-FF36E50FB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22AFB-A7FA-4754-9CBD-614AC8A27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D6B35-430D-42EB-B39C-4580F8F51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BE160-9C86-438A-AD92-2154490B7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82446-329B-489A-ACC7-58762E42E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A8F3-5499-4B82-AD7E-615C69BEA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7AB7F-15DE-4ECA-BA61-6E33CB9EE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A2EC6-EA47-4EE2-BB9E-DBBFF41C7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1BD8A-2FAD-4455-87F5-C8783C43F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88B45-E328-47F7-99D9-2393244C8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2A193-35A2-4C69-8897-85556775A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B2E3642-2202-45C4-831F-C06C2D3D3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030005D-5B96-47F2-BBFA-F7FBDE149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9BF1697-0B00-4174-A96D-3458D33EC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882E76E-1909-4671-B7C1-E17ECAFBE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FD697F1-4571-4174-8A3A-E0D9F2DEE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5D45-6822-4030-81CB-BA3E9003B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24CE028-56FE-48D2-90A3-381E30777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F9974ED-2892-4783-BCE1-2C25D10EA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8CC8E2E-CC6A-43AD-8967-2ED110D16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750A32C-B179-47DF-BD2F-A46074120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28C08B9-D0D6-457E-821C-0E69F22F1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1740CB6-317F-465E-9167-68B451C4B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6AE37A5-6EB1-4D25-9BA7-BE9EB39D3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72A06C-1223-49B7-88F4-2CBD83117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CEB76E-ACC2-455B-9FA9-11EA9DF3A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3FFDF5-0AA5-4675-B586-E0085B92D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E6F3-5A2B-4ABD-B63F-BE1043B6B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81BF9D-C837-4818-9EB1-42CA875C3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7AFCD4-14C6-45C3-AD6B-88B851463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6CE47A-31F2-4B09-B9A0-20A28F442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1F4C81-95D7-41C6-95DF-C19BEDF27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CD00EB-B07D-45D0-88A0-B2141A3C4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64D133-F274-42DC-A18D-706BA314D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DF2617-A958-4BA9-AD55-608E8ED98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F7FD2F-1921-4D89-9EC0-647576C60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704330-8C76-4342-9FA6-9FEEA003D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7BE13D-C0E8-42B3-832C-073981987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BF0D-B273-4E13-8C64-E606C7FAD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65A113-6B42-481E-8ECF-211DC1FCA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FDD2D9-FE62-46D8-82A9-88629DB66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FEC6C5-F89C-40BB-97DC-AC603CBB5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17FC77-F258-4716-8A37-853DEE434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0BBB52-1D3B-4505-866F-681944D08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7426BE-BB01-4BEB-AD84-C4D1445FB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DA9BA7-E8AE-4035-ABBD-DEB5EE868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7BD93A-FF5C-4020-A8F9-9E91C703D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367F5A-15E0-41A1-A0FC-E3A10365B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C3DCB1-7336-43E8-B313-CBB97AD1C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B4C3-FC77-492D-84EF-8D797C987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FE9DE5-25F6-4EBE-999E-198569764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4625A7-9107-4416-8FE8-62BD7731A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6FB2D3-50AF-4F17-9075-31EBCAF7C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D72292-D668-42D5-A9A1-F00418320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B50512-8E36-4D94-957A-429478815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9C0B32-FD5B-4592-8829-76C768A06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9F119A-E0FA-48AE-9292-8F8D5DEAB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030205-E95D-47A0-95CA-DF91E3F42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6202CC-60E0-4402-8E3D-0A24CEEEB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E1E73E-F6C1-4657-A3AE-36D196CA1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5FE3-F9C6-4076-8218-8D890DEA0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B7B07C-E7CF-4E6F-B0FD-23B60350E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D04A73-7A68-45D6-BDE7-2E8D36846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650B59-C21A-4C4B-8E06-6A4D7255C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1EB7-3882-4544-81AC-515F2A60C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07A1-E8DF-4E5D-B8E7-EF5A32B43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AAC13-8ACF-4A5B-A560-6E06269C04DC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D81D9-18BE-4935-A9B1-8F8AC6C7F2AE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56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1" name="PlaceHolder 1"/>
          <p:cNvSpPr>
            <a:spLocks noGrp="1"/>
          </p:cNvSpPr>
          <p:nvPr>
            <p:ph type="sldNum" idx="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F89EE-6930-40CA-AEBD-8B4D4DBBAB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ftr" idx="9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413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26D8B-8EE7-41BD-A999-A94881E64E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8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669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0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671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96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697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1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2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3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4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5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6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7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8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9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0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1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2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713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4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5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716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8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0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1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2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4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25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 type="dt" idx="13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 type="ftr" idx="14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 type="sldNum" idx="15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840C0-0913-4805-A294-590D3DFD0DC1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4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775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76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777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02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803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4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5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6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7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8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9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0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1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2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3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4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5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6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7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8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819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0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21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822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3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4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5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6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7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8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9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0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31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 type="dt" idx="16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 type="ftr" idx="17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 type="sldNum" idx="18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5ED02-A5A7-4DC1-B72B-D697B5C5B7C1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www.freeplaymusic.com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hyperlink" Target="http://web.mit.edu/invent/iow/ford.html" TargetMode="External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"/>
          <p:cNvSpPr txBox="1"/>
          <p:nvPr/>
        </p:nvSpPr>
        <p:spPr>
          <a:xfrm>
            <a:off x="380880" y="1523880"/>
            <a:ext cx="8305920" cy="533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InflateDeflate">
              <a:avLst>
                <a:gd name="adj" fmla="val 4409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3b76"/>
                  </a:solidFill>
                  <a:miter/>
                </a:ln>
                <a:gradFill rotWithShape="0">
                  <a:gsLst>
                    <a:gs pos="0">
                      <a:srgbClr val="666699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ASSEMBLY LINE</a:t>
            </a:r>
            <a:endParaRPr b="1" lang="en-US" sz="1800" spc="1" strike="noStrike">
              <a:ln w="9360">
                <a:solidFill>
                  <a:srgbClr val="003b76"/>
                </a:solidFill>
                <a:miter/>
              </a:ln>
              <a:gradFill rotWithShape="0">
                <a:gsLst>
                  <a:gs pos="0">
                    <a:srgbClr val="666699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80" name=""/>
          <p:cNvSpPr/>
          <p:nvPr/>
        </p:nvSpPr>
        <p:spPr>
          <a:xfrm>
            <a:off x="5105520" y="4978440"/>
            <a:ext cx="327636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ylan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nday, September 27,20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riod 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uter # 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1" name="" descr=""/>
          <p:cNvPicPr/>
          <p:nvPr/>
        </p:nvPicPr>
        <p:blipFill>
          <a:blip r:embed="rId1"/>
          <a:stretch/>
        </p:blipFill>
        <p:spPr>
          <a:xfrm>
            <a:off x="304920" y="6172200"/>
            <a:ext cx="228600" cy="304920"/>
          </a:xfrm>
          <a:prstGeom prst="rect">
            <a:avLst/>
          </a:prstGeom>
          <a:ln w="0">
            <a:noFill/>
          </a:ln>
        </p:spPr>
      </p:pic>
      <p:sp>
        <p:nvSpPr>
          <p:cNvPr id="882" name=""/>
          <p:cNvSpPr/>
          <p:nvPr/>
        </p:nvSpPr>
        <p:spPr>
          <a:xfrm>
            <a:off x="0" y="5986440"/>
            <a:ext cx="4038480" cy="11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usic: free play music, 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rock pop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, Monday, October 04, 2010, </a:t>
            </a:r>
            <a:r>
              <a:rPr b="0" lang="en-US" sz="1400" spc="-1" strike="noStrike" u="sng">
                <a:solidFill>
                  <a:srgbClr val="ffffcc"/>
                </a:solidFill>
                <a:uFillTx/>
                <a:latin typeface="Arial"/>
                <a:hlinkClick r:id="rId2"/>
              </a:rPr>
              <a:t>www.freeplaymusic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8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Invention: Assembly Lin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assembly line was so efficient he lowered the cost of ca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rice dropped $56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took 93 minutes to put a car together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nry Ford sold 1 million cars that ye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5" name="" descr=""/>
          <p:cNvPicPr/>
          <p:nvPr/>
        </p:nvPicPr>
        <p:blipFill>
          <a:blip r:embed="rId5"/>
          <a:srcRect l="9754" t="8334" r="12195" b="8334"/>
          <a:stretch/>
        </p:blipFill>
        <p:spPr>
          <a:xfrm>
            <a:off x="2895480" y="4572000"/>
            <a:ext cx="2438640" cy="1523880"/>
          </a:xfrm>
          <a:prstGeom prst="rect">
            <a:avLst/>
          </a:prstGeom>
          <a:ln w="0">
            <a:noFill/>
          </a:ln>
        </p:spPr>
      </p:pic>
      <p:sp>
        <p:nvSpPr>
          <p:cNvPr id="886" name=""/>
          <p:cNvSpPr/>
          <p:nvPr/>
        </p:nvSpPr>
        <p:spPr>
          <a:xfrm>
            <a:off x="3276720" y="6172200"/>
            <a:ext cx="15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lip ar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nventor: Henry For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Henry was born in 1863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He Invented famous Model T ca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 price was $850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 Assembly line was created in 1908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Henry built gasoline engine in 1893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He died in 1947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889" name="" descr=""/>
          <p:cNvPicPr/>
          <p:nvPr/>
        </p:nvPicPr>
        <p:blipFill>
          <a:blip r:embed="rId1"/>
          <a:stretch/>
        </p:blipFill>
        <p:spPr>
          <a:xfrm>
            <a:off x="4724280" y="4932360"/>
            <a:ext cx="1749600" cy="1268280"/>
          </a:xfrm>
          <a:prstGeom prst="rect">
            <a:avLst/>
          </a:prstGeom>
          <a:ln w="0">
            <a:noFill/>
          </a:ln>
        </p:spPr>
      </p:pic>
      <p:sp>
        <p:nvSpPr>
          <p:cNvPr id="890" name=""/>
          <p:cNvSpPr/>
          <p:nvPr/>
        </p:nvSpPr>
        <p:spPr>
          <a:xfrm>
            <a:off x="4939560" y="6208560"/>
            <a:ext cx="90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Clip a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93" name="" descr="Ford"/>
          <p:cNvPicPr/>
          <p:nvPr/>
        </p:nvPicPr>
        <p:blipFill>
          <a:blip r:embed="rId1"/>
          <a:srcRect l="32738" t="24738" r="41426" b="22778"/>
          <a:stretch/>
        </p:blipFill>
        <p:spPr>
          <a:xfrm>
            <a:off x="1828800" y="228600"/>
            <a:ext cx="5334120" cy="1295280"/>
          </a:xfrm>
          <a:prstGeom prst="rect">
            <a:avLst/>
          </a:prstGeom>
          <a:ln w="0">
            <a:noFill/>
          </a:ln>
        </p:spPr>
      </p:pic>
      <p:pic>
        <p:nvPicPr>
          <p:cNvPr id="894" name="" descr="Ford"/>
          <p:cNvPicPr/>
          <p:nvPr/>
        </p:nvPicPr>
        <p:blipFill>
          <a:blip r:embed="rId2"/>
          <a:srcRect l="1907" t="4059" r="76159" b="6928"/>
          <a:stretch/>
        </p:blipFill>
        <p:spPr>
          <a:xfrm>
            <a:off x="533520" y="274320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895" name="" descr="Ford"/>
          <p:cNvPicPr/>
          <p:nvPr/>
        </p:nvPicPr>
        <p:blipFill>
          <a:blip r:embed="rId3"/>
          <a:srcRect l="70481" t="5318" r="2161" b="1889"/>
          <a:stretch/>
        </p:blipFill>
        <p:spPr>
          <a:xfrm>
            <a:off x="4800600" y="2666880"/>
            <a:ext cx="2895480" cy="2667240"/>
          </a:xfrm>
          <a:prstGeom prst="rect">
            <a:avLst/>
          </a:prstGeom>
          <a:ln w="0">
            <a:noFill/>
          </a:ln>
        </p:spPr>
      </p:pic>
      <p:sp>
        <p:nvSpPr>
          <p:cNvPr id="896" name=""/>
          <p:cNvSpPr/>
          <p:nvPr/>
        </p:nvSpPr>
        <p:spPr>
          <a:xfrm>
            <a:off x="304920" y="5638680"/>
            <a:ext cx="84582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melson Mit,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The Assembly Lin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 September 29, 2010 </a:t>
            </a:r>
            <a:r>
              <a:rPr b="0" lang="en-US" sz="1800" spc="-1" strike="noStrike" u="sng">
                <a:solidFill>
                  <a:srgbClr val="ffffcc"/>
                </a:solidFill>
                <a:uFillTx/>
                <a:latin typeface="Arial"/>
                <a:hlinkClick r:id="rId4"/>
              </a:rPr>
              <a:t>http://web.mit.edu/invent/iow/ford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609480" y="1752480"/>
            <a:ext cx="8229600" cy="45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609480" y="190512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685800" y="5791320"/>
            <a:ext cx="8077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762120" y="190512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1" name="" descr=""/>
          <p:cNvPicPr/>
          <p:nvPr/>
        </p:nvPicPr>
        <p:blipFill>
          <a:blip r:embed="rId5"/>
          <a:stretch/>
        </p:blipFill>
        <p:spPr>
          <a:xfrm>
            <a:off x="6248520" y="5867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1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1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4745" fill="hold"/>
                                        <p:tgtEl>
                                          <p:spTgt spid="9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7T17:34:07Z</dcterms:created>
  <dc:creator>install</dc:creator>
  <dc:description/>
  <dc:language>en-US</dc:language>
  <cp:lastModifiedBy>install</cp:lastModifiedBy>
  <dcterms:modified xsi:type="dcterms:W3CDTF">2010-10-14T17:29:15Z</dcterms:modified>
  <cp:revision>15</cp:revision>
  <dc:subject/>
  <dc:title>Slide 1</dc:title>
</cp:coreProperties>
</file>